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49D0-B7FC-40C3-A510-F5DDB46CEF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C82C-F2F0-4C37-BAB9-5D80C13428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2C8C-5B15-495B-82EB-C439544A3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575A-F03A-4008-AAD1-A3263853B9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EBBC-ADF8-409B-8C4B-BAB30926C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DBA6-83CF-4B71-8899-D6A46C0F62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3BFC-0360-42ED-8834-AF790874D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9AF-0F95-4053-B4E5-C1DF29B9B9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604-A69E-4757-BF05-364C5D6B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3F4-F887-490F-B510-B785EDA7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E4C3-659C-4F69-B923-87CD1587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E65-64AF-413D-A792-9C3696A5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57C-C9C1-4AF7-A3F0-26B6669A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E9B-D665-46AC-81BD-4DEADE36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013-0F00-438B-B3E1-7F47D9EB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232-B832-4956-A462-DCFC1F6D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E2B-5007-48C7-B5B0-B0B28F7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57F0-2C39-4F43-9FAC-40DBDDE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8BB-C243-42F1-BC98-0DD5DB5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600-1E9D-4439-9E7F-2F77AFCF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1E3D-D0FD-46CE-818D-E3578181B8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45A9-51F6-4DB3-A52D-35D0919D2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200160" y="3002040"/>
            <a:ext cx="970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d528d"/>
                </a:solidFill>
                <a:latin typeface="Arial"/>
              </a:rPr>
              <a:t>Организация питания в детском са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D:\СВЯТОХА\Логотип МОН_new.png"/>
          <p:cNvPicPr/>
          <p:nvPr/>
        </p:nvPicPr>
        <p:blipFill>
          <a:blip r:embed="rId1"/>
          <a:stretch/>
        </p:blipFill>
        <p:spPr>
          <a:xfrm>
            <a:off x="109440" y="907920"/>
            <a:ext cx="1863720" cy="1865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952880" y="5661000"/>
            <a:ext cx="49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 Unicode MS"/>
              </a:rPr>
              <a:t>Святоха Г.А., главный консультант отдела дошкольно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8"/>
          <p:cNvSpPr/>
          <p:nvPr/>
        </p:nvSpPr>
        <p:spPr>
          <a:xfrm>
            <a:off x="11160" y="0"/>
            <a:ext cx="981000" cy="1700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2486160"/>
            <a:ext cx="990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10"/>
          <p:cNvSpPr/>
          <p:nvPr/>
        </p:nvSpPr>
        <p:spPr>
          <a:xfrm>
            <a:off x="11160" y="5157720"/>
            <a:ext cx="981000" cy="1700280"/>
          </a:xfrm>
          <a:prstGeom prst="rect">
            <a:avLst/>
          </a:prstGeom>
          <a:gradFill rotWithShape="0">
            <a:gsLst>
              <a:gs pos="0">
                <a:srgbClr val="09264a"/>
              </a:gs>
              <a:gs pos="100000">
                <a:srgbClr val="18488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9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EDB-6B01-4F01-BD94-7B8121F54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H:\РАБОТА\Базы данных\Логотип МОН_new.png"/>
          <p:cNvPicPr/>
          <p:nvPr/>
        </p:nvPicPr>
        <p:blipFill>
          <a:blip r:embed="rId1"/>
          <a:stretch/>
        </p:blipFill>
        <p:spPr>
          <a:xfrm>
            <a:off x="7905600" y="18900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иторинг выполнения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272880" y="2133720"/>
            <a:ext cx="4345200" cy="2879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 раза в г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нварь      (до 12 чис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юль          (до 5 чис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519120" y="766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4952880" y="2133720"/>
            <a:ext cx="4392720" cy="1295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1- 3 лет -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4952880" y="3716280"/>
            <a:ext cx="4392720" cy="1297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т  3 - 7 лет -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екраевой показ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19120" y="7668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Овал 11"/>
          <p:cNvGrpSpPr/>
          <p:nvPr/>
        </p:nvGrpSpPr>
        <p:grpSpPr>
          <a:xfrm>
            <a:off x="1054080" y="2535120"/>
            <a:ext cx="3146400" cy="2847960"/>
            <a:chOff x="1054080" y="2535120"/>
            <a:chExt cx="3146400" cy="2847960"/>
          </a:xfrm>
        </p:grpSpPr>
        <p:pic>
          <p:nvPicPr>
            <p:cNvPr id="69" name="Овал 11" descr=""/>
            <p:cNvPicPr/>
            <p:nvPr/>
          </p:nvPicPr>
          <p:blipFill>
            <a:blip r:embed="rId1"/>
            <a:stretch/>
          </p:blipFill>
          <p:spPr>
            <a:xfrm>
              <a:off x="1054080" y="2535120"/>
              <a:ext cx="314640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550880" y="2965320"/>
              <a:ext cx="21495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99,3%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Выноска со стрелкой вниз 12"/>
          <p:cNvSpPr/>
          <p:nvPr/>
        </p:nvSpPr>
        <p:spPr>
          <a:xfrm>
            <a:off x="936720" y="1197000"/>
            <a:ext cx="3424320" cy="1009800"/>
          </a:xfrm>
          <a:prstGeom prst="downArrowCallout">
            <a:avLst>
              <a:gd name="adj1" fmla="val 24996"/>
              <a:gd name="adj2" fmla="val 24994"/>
              <a:gd name="adj3" fmla="val 25000"/>
              <a:gd name="adj4" fmla="val 64977"/>
            </a:avLst>
          </a:prstGeom>
          <a:solidFill>
            <a:srgbClr val="b9cde5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1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Овал 13"/>
          <p:cNvGrpSpPr/>
          <p:nvPr/>
        </p:nvGrpSpPr>
        <p:grpSpPr>
          <a:xfrm>
            <a:off x="5303880" y="2577960"/>
            <a:ext cx="3144960" cy="2847960"/>
            <a:chOff x="5303880" y="2577960"/>
            <a:chExt cx="3144960" cy="2847960"/>
          </a:xfrm>
        </p:grpSpPr>
        <p:pic>
          <p:nvPicPr>
            <p:cNvPr id="73" name="Овал 13" descr=""/>
            <p:cNvPicPr/>
            <p:nvPr/>
          </p:nvPicPr>
          <p:blipFill>
            <a:blip r:embed="rId2"/>
            <a:stretch/>
          </p:blipFill>
          <p:spPr>
            <a:xfrm>
              <a:off x="5303880" y="2577960"/>
              <a:ext cx="3144960" cy="28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5802480" y="3008160"/>
              <a:ext cx="214920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99,7%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Выноска со стрелкой вниз 14"/>
          <p:cNvSpPr/>
          <p:nvPr/>
        </p:nvSpPr>
        <p:spPr>
          <a:xfrm>
            <a:off x="5186520" y="1239840"/>
            <a:ext cx="3425760" cy="1009800"/>
          </a:xfrm>
          <a:prstGeom prst="downArrowCallout">
            <a:avLst>
              <a:gd name="adj1" fmla="val 25006"/>
              <a:gd name="adj2" fmla="val 24988"/>
              <a:gd name="adj3" fmla="val 25000"/>
              <a:gd name="adj4" fmla="val 64977"/>
            </a:avLst>
          </a:prstGeom>
          <a:solidFill>
            <a:srgbClr val="b9cde5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ашивка 1"/>
          <p:cNvSpPr/>
          <p:nvPr/>
        </p:nvSpPr>
        <p:spPr>
          <a:xfrm rot="10800000">
            <a:off x="4232160" y="3392280"/>
            <a:ext cx="1082880" cy="1081080"/>
          </a:xfrm>
          <a:custGeom>
            <a:avLst/>
            <a:gdLst>
              <a:gd name="textAreaLeft" fmla="*/ 0 w 1082880"/>
              <a:gd name="textAreaRight" fmla="*/ 1082880 w 10828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16" y="0"/>
                </a:lnTo>
                <a:lnTo>
                  <a:pt x="21600" y="10800"/>
                </a:lnTo>
                <a:lnTo>
                  <a:pt x="10816" y="21600"/>
                </a:lnTo>
                <a:lnTo>
                  <a:pt x="0" y="21600"/>
                </a:lnTo>
                <a:lnTo>
                  <a:pt x="10784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4432320" y="2719440"/>
            <a:ext cx="10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0,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397160"/>
          <a:ext cx="6813720" cy="3474720"/>
        </p:xfrm>
        <a:graphic>
          <a:graphicData uri="http://schemas.openxmlformats.org/drawingml/2006/table">
            <a:tbl>
              <a:tblPr/>
              <a:tblGrid>
                <a:gridCol w="68137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 % по 22 основным продукта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вказ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ще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покров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машев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апсински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60520" y="981000"/>
          <a:ext cx="8783640" cy="5699160"/>
        </p:xfrm>
        <a:graphic>
          <a:graphicData uri="http://schemas.openxmlformats.org/drawingml/2006/table">
            <a:tbl>
              <a:tblPr/>
              <a:tblGrid>
                <a:gridCol w="4464000"/>
                <a:gridCol w="431964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ини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вянский (1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евско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юховецкий (1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енов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мавир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ба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мрюкский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вер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ловский (1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билис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российск (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енский (2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ымский (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Щербиновский (1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хорецкий (1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4320">
                      <a:solidFill>
                        <a:srgbClr val="be4b48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ячий Ключ (1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be4b48"/>
                      </a:solidFill>
                    </a:lnR>
                    <a:lnT w="4320">
                      <a:solidFill>
                        <a:srgbClr val="be4b48"/>
                      </a:solidFill>
                    </a:lnT>
                    <a:lnB w="4320">
                      <a:solidFill>
                        <a:srgbClr val="be4b48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0520" y="1197000"/>
          <a:ext cx="9064440" cy="3627360"/>
        </p:xfrm>
        <a:graphic>
          <a:graphicData uri="http://schemas.openxmlformats.org/drawingml/2006/table">
            <a:tbl>
              <a:tblPr/>
              <a:tblGrid>
                <a:gridCol w="4105080"/>
                <a:gridCol w="49593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9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па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й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дар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й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ин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ин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пшерон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тов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лькевич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вловски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d0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нской (99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50"/>
                      </a:solidFill>
                    </a:lnL>
                    <a:lnR w="5760">
                      <a:solidFill>
                        <a:srgbClr val="00d05e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орско-Ахтарский (99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d05e"/>
                      </a:solidFill>
                    </a:lnL>
                    <a:lnR w="5760">
                      <a:solidFill>
                        <a:srgbClr val="00b050"/>
                      </a:solidFill>
                    </a:lnR>
                    <a:lnT w="5760">
                      <a:solidFill>
                        <a:srgbClr val="00d05e"/>
                      </a:solidFill>
                    </a:lnT>
                    <a:lnB w="5760">
                      <a:solidFill>
                        <a:srgbClr val="00b0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Нашивка 3"/>
          <p:cNvSpPr/>
          <p:nvPr/>
        </p:nvSpPr>
        <p:spPr>
          <a:xfrm>
            <a:off x="3954600" y="1298520"/>
            <a:ext cx="382320" cy="330120"/>
          </a:xfrm>
          <a:custGeom>
            <a:avLst/>
            <a:gdLst>
              <a:gd name="textAreaLeft" fmla="*/ 0 w 382320"/>
              <a:gd name="textAreaRight" fmla="*/ 382680 w 38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9" y="0"/>
                </a:lnTo>
                <a:lnTo>
                  <a:pt x="21600" y="10800"/>
                </a:lnTo>
                <a:lnTo>
                  <a:pt x="12279" y="21600"/>
                </a:lnTo>
                <a:lnTo>
                  <a:pt x="0" y="21600"/>
                </a:lnTo>
                <a:lnTo>
                  <a:pt x="9321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ие натуральных норм пи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0520" y="1197000"/>
          <a:ext cx="8783640" cy="3108240"/>
        </p:xfrm>
        <a:graphic>
          <a:graphicData uri="http://schemas.openxmlformats.org/drawingml/2006/table">
            <a:tbl>
              <a:tblPr/>
              <a:tblGrid>
                <a:gridCol w="4105080"/>
                <a:gridCol w="4678560"/>
              </a:tblGrid>
              <a:tr h="518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9,7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и (98,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инский (9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ленджик  (99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нинградский (96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глинский (99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оминский (98,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реченский (98,4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ть-Лабинский (98,9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елковский (99,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дненский (96,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17375e"/>
                      </a:solidFill>
                    </a:lnL>
                    <a:lnR w="5760">
                      <a:solidFill>
                        <a:srgbClr val="17375e"/>
                      </a:solidFill>
                    </a:lnR>
                    <a:lnT w="5760">
                      <a:solidFill>
                        <a:srgbClr val="17375e"/>
                      </a:solidFill>
                    </a:lnT>
                    <a:lnB w="5760">
                      <a:solidFill>
                        <a:srgbClr val="17375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Нашивка 3"/>
          <p:cNvSpPr/>
          <p:nvPr/>
        </p:nvSpPr>
        <p:spPr>
          <a:xfrm rot="10800000">
            <a:off x="3954600" y="1298160"/>
            <a:ext cx="382320" cy="330120"/>
          </a:xfrm>
          <a:custGeom>
            <a:avLst/>
            <a:gdLst>
              <a:gd name="textAreaLeft" fmla="*/ 0 w 382320"/>
              <a:gd name="textAreaRight" fmla="*/ 382680 w 3823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279" y="0"/>
                </a:lnTo>
                <a:lnTo>
                  <a:pt x="21600" y="10800"/>
                </a:lnTo>
                <a:lnTo>
                  <a:pt x="12279" y="21600"/>
                </a:lnTo>
                <a:lnTo>
                  <a:pt x="0" y="21600"/>
                </a:lnTo>
                <a:lnTo>
                  <a:pt x="9321" y="108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у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328680" y="1052640"/>
            <a:ext cx="957744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Использование различных сборников рецептур, либо неуказание источник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соответствие фактического рациона питания утверждённому мен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В меню требованиях не указывается день цикличного меню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соответствие технологии приготовления и норм закладк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Частичное отсутствие технологических карт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Отсутствие контроля за нормами потребления продук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Недополученные детьми определенных продук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Calibri"/>
              </a:rPr>
              <a:t>Отсутствие питания в группах кратковременного пребывания (до 5 часов) при установленной родительской плат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27"/>
          <p:cNvSpPr/>
          <p:nvPr/>
        </p:nvSpPr>
        <p:spPr>
          <a:xfrm>
            <a:off x="1106640" y="404640"/>
            <a:ext cx="6078240" cy="392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hape 34"/>
          <p:cNvSpPr/>
          <p:nvPr/>
        </p:nvSpPr>
        <p:spPr>
          <a:xfrm>
            <a:off x="0" y="-7920"/>
            <a:ext cx="9906120" cy="628560"/>
          </a:xfrm>
          <a:prstGeom prst="rect">
            <a:avLst/>
          </a:prstGeom>
          <a:solidFill>
            <a:srgbClr val="1f497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ашивка 31"/>
          <p:cNvSpPr/>
          <p:nvPr/>
        </p:nvSpPr>
        <p:spPr>
          <a:xfrm>
            <a:off x="9063000" y="-792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ашивка 32"/>
          <p:cNvSpPr/>
          <p:nvPr/>
        </p:nvSpPr>
        <p:spPr>
          <a:xfrm>
            <a:off x="8559720" y="0"/>
            <a:ext cx="561960" cy="628560"/>
          </a:xfrm>
          <a:custGeom>
            <a:avLst/>
            <a:gdLst>
              <a:gd name="textAreaLeft" fmla="*/ 0 w 561960"/>
              <a:gd name="textAreaRight" fmla="*/ 562320 w 56196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955800" y="1052640"/>
            <a:ext cx="8200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овести внутреннюю проверку организаций  по питанию (до 1 апреля текущего год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координировать время пребывания медицинского работника в образовательной организации для осуществления контроля за питанием (до 1 апреля текущего год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овести потребление фруктов, овощей, соков, молочных  и мясных продуктов до 100% показателей (до 1 января 2018 год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3T06:36:18Z</dcterms:created>
  <dc:creator>Sokolova</dc:creator>
  <dc:description/>
  <dc:language>en-US</dc:language>
  <cp:lastModifiedBy>Галина Святоха</cp:lastModifiedBy>
  <cp:lastPrinted>2016-10-07T20:57:44Z</cp:lastPrinted>
  <dcterms:modified xsi:type="dcterms:W3CDTF">2017-02-01T12:12:04Z</dcterms:modified>
  <cp:revision>248</cp:revision>
  <dc:subject/>
  <dc:title>Презентация PowerPoint</dc:title>
</cp:coreProperties>
</file>